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8.jpeg" ContentType="image/jpeg"/>
  <Override PartName="/ppt/media/image2.pct" ContentType="image/x-pict"/>
  <Override PartName="/ppt/media/image3.pct" ContentType="image/x-pict"/>
  <Override PartName="/ppt/media/image6.png" ContentType="image/png"/>
  <Override PartName="/ppt/media/image4.pct" ContentType="image/x-pict"/>
  <Override PartName="/ppt/media/image7.png" ContentType="image/png"/>
  <Override PartName="/ppt/media/image5.gif" ContentType="image/gif"/>
  <Override PartName="/ppt/media/image9.png" ContentType="image/png"/>
  <Override PartName="/ppt/media/image10.jpeg" ContentType="image/jpeg"/>
  <Override PartName="/ppt/media/image11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5412-5D89-48B6-9330-62626E377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7D18-99C4-4D58-AF91-9DD0A1D5C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33F7-F2FF-4515-8D38-772207F1F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6E02-4029-43B8-B2C0-20FC05477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331A-7A37-4AB9-8D13-B677D9CEA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EF92-B897-4F94-A59E-320CAD84D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CFD9-36A9-4550-9D05-03BCDFDC2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5562-FB6C-4631-BCED-FC7A61876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05BE-CA32-4DE8-B551-E29E96D48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C8BF-E08A-4E9B-9F29-48907A407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5BFA-427B-4BA5-BFB7-13D1A12BB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F8CD-5643-4BBC-AFB8-11614756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1F0D8-ED3A-457F-98DF-FA16FD6D0A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mhhe.com/physsci/chemistry/animations/chang_7e_esp/crm3s5_5.swf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dCast 19.3 - 19.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ngths of Acids and Bases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utralization Re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80880" y="2895480"/>
            <a:ext cx="3733920" cy="2800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: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Determining the Concentration of an Acid by Tit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any mL of 0.5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Cl will neutralize 50 mL of 1.0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aO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07080" y="2971800"/>
            <a:ext cx="4264560" cy="914400"/>
            <a:chOff x="307080" y="2971800"/>
            <a:chExt cx="4264560" cy="914400"/>
          </a:xfrm>
        </p:grpSpPr>
        <p:sp>
          <p:nvSpPr>
            <p:cNvPr id="105" name=""/>
            <p:cNvSpPr/>
            <p:nvPr/>
          </p:nvSpPr>
          <p:spPr>
            <a:xfrm>
              <a:off x="307080" y="2990880"/>
              <a:ext cx="199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.050 L NaO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469240" y="29718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90320" y="3429000"/>
              <a:ext cx="408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662560" y="2990880"/>
            <a:ext cx="175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mol NaO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L NaO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4572000" y="2971800"/>
            <a:ext cx="1905120" cy="914400"/>
            <a:chOff x="4572000" y="2971800"/>
            <a:chExt cx="1905120" cy="914400"/>
          </a:xfrm>
        </p:grpSpPr>
        <p:sp>
          <p:nvSpPr>
            <p:cNvPr id="110" name=""/>
            <p:cNvSpPr/>
            <p:nvPr/>
          </p:nvSpPr>
          <p:spPr>
            <a:xfrm>
              <a:off x="4572000" y="29718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0" y="342900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643640" y="3048120"/>
              <a:ext cx="1755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mol HC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mol NaO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477120" y="2971800"/>
            <a:ext cx="1902600" cy="901800"/>
            <a:chOff x="6477120" y="2971800"/>
            <a:chExt cx="1902600" cy="901800"/>
          </a:xfrm>
        </p:grpSpPr>
        <p:sp>
          <p:nvSpPr>
            <p:cNvPr id="114" name=""/>
            <p:cNvSpPr/>
            <p:nvPr/>
          </p:nvSpPr>
          <p:spPr>
            <a:xfrm>
              <a:off x="6477120" y="29718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477120" y="342900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505920" y="3048120"/>
              <a:ext cx="1873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00 mL HC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.5 mol HC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1479600" y="4151160"/>
            <a:ext cx="257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100 mL H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rtual Ti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View titration to answer questions on note gu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lt Hydro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alts dissolved in a solution can be </a:t>
            </a:r>
            <a:r>
              <a:rPr b="0" i="1" lang="en-US" sz="3200" spc="-1" strike="noStrike">
                <a:solidFill>
                  <a:srgbClr val="cc0000"/>
                </a:solidFill>
                <a:latin typeface="Times New Roman"/>
              </a:rPr>
              <a:t>acidic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asic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or neut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cations or anions of the dissociated salt will </a:t>
            </a:r>
            <a:r>
              <a:rPr b="0" i="1" lang="en-US" sz="2800" spc="-1" strike="noStrike">
                <a:solidFill>
                  <a:srgbClr val="cc0000"/>
                </a:solidFill>
                <a:latin typeface="Times New Roman"/>
              </a:rPr>
              <a:t>donate 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[H</a:t>
            </a:r>
            <a:r>
              <a:rPr b="0" lang="en-US" sz="2800" spc="-1" strike="noStrike" baseline="30000">
                <a:solidFill>
                  <a:srgbClr val="cc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]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o water or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accept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[H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]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rom 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cess makes the solution </a:t>
            </a:r>
            <a:r>
              <a:rPr b="0" i="1" lang="en-US" sz="2800" spc="-1" strike="noStrike">
                <a:solidFill>
                  <a:srgbClr val="cc0000"/>
                </a:solidFill>
                <a:latin typeface="Times New Roman"/>
              </a:rPr>
              <a:t>acidi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bas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320" y="914400"/>
            <a:ext cx="7391160" cy="0"/>
          </a:xfrm>
          <a:prstGeom prst="line">
            <a:avLst/>
          </a:prstGeom>
          <a:ln w="28440">
            <a:solidFill>
              <a:srgbClr val="000000"/>
            </a:solidFill>
            <a:prstDash val="lgDashDot"/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40384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Strong Ac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trong Ba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Neutral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48006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Strong Ac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eak Ba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Acid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551664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Weak Ac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trong Ba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asic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ff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lts that contain 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weak aci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/or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eak b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Resist changes in 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y important in your body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)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bonic acid / hydrogen carbonate buff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bl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uffer capac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the amount of acid (or base) that can be added to a buffer solution before a significant change in pH occu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320" y="914400"/>
            <a:ext cx="7391160" cy="0"/>
          </a:xfrm>
          <a:prstGeom prst="line">
            <a:avLst/>
          </a:prstGeom>
          <a:ln w="28440">
            <a:solidFill>
              <a:srgbClr val="000000"/>
            </a:solidFill>
            <a:prstDash val="lgDashDot"/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1920" y="91404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s will be able to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mpa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ra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Strong Aci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lai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monstr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ow titration is used to calculate the concentration of an 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aci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scrib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 solution of a salt is 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acid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as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lai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ance of                                                     buff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902120" y="3657600"/>
            <a:ext cx="3175200" cy="2971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engths of 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Acid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B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ength depends on the degree to which the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oniz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ong 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Aci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or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as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mplete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on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k 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Aci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or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as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light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on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 to Table 19.6, p.6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3860640"/>
            <a:ext cx="2741760" cy="27687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223880" y="4540320"/>
            <a:ext cx="5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181480" y="3733920"/>
            <a:ext cx="2438640" cy="2895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utralization re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ing an 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ac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uble replacement re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es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and a sa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2971800"/>
            <a:ext cx="830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Acid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+  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Bas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Water   +   Sal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3718080"/>
            <a:ext cx="830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 )   +  ( )OH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HOH   +   ( )(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52280" y="4602240"/>
            <a:ext cx="8534520" cy="1282680"/>
            <a:chOff x="152280" y="4602240"/>
            <a:chExt cx="8534520" cy="1282680"/>
          </a:xfrm>
        </p:grpSpPr>
        <p:sp>
          <p:nvSpPr>
            <p:cNvPr id="56" name=""/>
            <p:cNvSpPr/>
            <p:nvPr/>
          </p:nvSpPr>
          <p:spPr>
            <a:xfrm>
              <a:off x="380880" y="5181480"/>
              <a:ext cx="8305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c0000"/>
                  </a:solidFill>
                  <a:latin typeface="Times New Roman"/>
                </a:rPr>
                <a:t>HCl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  +   </a:t>
              </a:r>
              <a:r>
                <a:rPr b="1" lang="en-US" sz="4000" spc="-1" strike="noStrike">
                  <a:solidFill>
                    <a:srgbClr val="3333cc"/>
                  </a:solidFill>
                  <a:latin typeface="Times New Roman"/>
                </a:rPr>
                <a:t>NaOH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   HOH   +   NaCl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52280" y="4602240"/>
              <a:ext cx="8305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76320" y="914400"/>
            <a:ext cx="7391160" cy="0"/>
          </a:xfrm>
          <a:prstGeom prst="line">
            <a:avLst/>
          </a:prstGeom>
          <a:ln w="28440">
            <a:solidFill>
              <a:srgbClr val="000000"/>
            </a:solidFill>
            <a:prstDash val="lgDashDot"/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295280" y="3108240"/>
            <a:ext cx="6705720" cy="3826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88960" y="1371600"/>
            <a:ext cx="3297240" cy="3429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068800" y="1352520"/>
            <a:ext cx="3389400" cy="3524400"/>
          </a:xfrm>
          <a:prstGeom prst="rect">
            <a:avLst/>
          </a:prstGeom>
          <a:ln w="0">
            <a:noFill/>
          </a:ln>
        </p:spPr>
      </p:pic>
      <p:grpSp>
        <p:nvGrpSpPr>
          <p:cNvPr id="62" name=""/>
          <p:cNvGrpSpPr/>
          <p:nvPr/>
        </p:nvGrpSpPr>
        <p:grpSpPr>
          <a:xfrm>
            <a:off x="304920" y="471600"/>
            <a:ext cx="8533800" cy="1282680"/>
            <a:chOff x="304920" y="471600"/>
            <a:chExt cx="8533800" cy="1282680"/>
          </a:xfrm>
        </p:grpSpPr>
        <p:sp>
          <p:nvSpPr>
            <p:cNvPr id="63" name=""/>
            <p:cNvSpPr/>
            <p:nvPr/>
          </p:nvSpPr>
          <p:spPr>
            <a:xfrm>
              <a:off x="533160" y="1050840"/>
              <a:ext cx="8305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c0000"/>
                  </a:solidFill>
                  <a:latin typeface="Times New Roman"/>
                </a:rPr>
                <a:t>HCl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  +   </a:t>
              </a:r>
              <a:r>
                <a:rPr b="1" lang="en-US" sz="4000" spc="-1" strike="noStrike">
                  <a:solidFill>
                    <a:srgbClr val="3333cc"/>
                  </a:solidFill>
                  <a:latin typeface="Times New Roman"/>
                </a:rPr>
                <a:t>NaOH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   HOH   +   NaCl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04920" y="471600"/>
              <a:ext cx="8305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x) 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Neutraliza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1600200" y="52578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f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248520" y="52578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f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utralization re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ss of adding a specified amount of 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nown concentr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 solution to determine 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ncentra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nother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dicator is used show the change in 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) phenolphthalein indic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320" y="914400"/>
            <a:ext cx="7391160" cy="0"/>
          </a:xfrm>
          <a:prstGeom prst="line">
            <a:avLst/>
          </a:prstGeom>
          <a:ln w="28440">
            <a:solidFill>
              <a:srgbClr val="000000"/>
            </a:solidFill>
            <a:prstDash val="lgDashDot"/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523880" y="41911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715000" y="3505320"/>
            <a:ext cx="2873520" cy="3162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1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6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9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4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809880" y="2438280"/>
            <a:ext cx="4365720" cy="3726000"/>
          </a:xfrm>
          <a:prstGeom prst="rect">
            <a:avLst/>
          </a:prstGeom>
          <a:ln w="0">
            <a:noFill/>
          </a:ln>
        </p:spPr>
      </p:pic>
      <p:grpSp>
        <p:nvGrpSpPr>
          <p:cNvPr id="73" name=""/>
          <p:cNvGrpSpPr/>
          <p:nvPr/>
        </p:nvGrpSpPr>
        <p:grpSpPr>
          <a:xfrm>
            <a:off x="9725040" y="4186080"/>
            <a:ext cx="7037280" cy="360"/>
            <a:chOff x="9725040" y="4186080"/>
            <a:chExt cx="7037280" cy="360"/>
          </a:xfrm>
        </p:grpSpPr>
        <p:sp>
          <p:nvSpPr>
            <p:cNvPr id="74" name=""/>
            <p:cNvSpPr/>
            <p:nvPr/>
          </p:nvSpPr>
          <p:spPr>
            <a:xfrm>
              <a:off x="9725040" y="4186080"/>
              <a:ext cx="7037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9725040" y="4186080"/>
              <a:ext cx="7037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9815400" y="4186080"/>
            <a:ext cx="6858000" cy="360"/>
            <a:chOff x="9815400" y="4186080"/>
            <a:chExt cx="6858000" cy="360"/>
          </a:xfrm>
        </p:grpSpPr>
        <p:grpSp>
          <p:nvGrpSpPr>
            <p:cNvPr id="77" name=""/>
            <p:cNvGrpSpPr/>
            <p:nvPr/>
          </p:nvGrpSpPr>
          <p:grpSpPr>
            <a:xfrm>
              <a:off x="9819720" y="4186080"/>
              <a:ext cx="6848640" cy="360"/>
              <a:chOff x="9819720" y="4186080"/>
              <a:chExt cx="6848640" cy="360"/>
            </a:xfrm>
          </p:grpSpPr>
          <p:sp>
            <p:nvSpPr>
              <p:cNvPr id="78" name=""/>
              <p:cNvSpPr/>
              <p:nvPr/>
            </p:nvSpPr>
            <p:spPr>
              <a:xfrm>
                <a:off x="9819720" y="4186080"/>
                <a:ext cx="68486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9819720" y="4186080"/>
                <a:ext cx="68486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9815400" y="4186080"/>
              <a:ext cx="6858000" cy="3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9925200" y="4143240"/>
            <a:ext cx="7037280" cy="360"/>
            <a:chOff x="9925200" y="4143240"/>
            <a:chExt cx="7037280" cy="360"/>
          </a:xfrm>
        </p:grpSpPr>
        <p:sp>
          <p:nvSpPr>
            <p:cNvPr id="82" name=""/>
            <p:cNvSpPr/>
            <p:nvPr/>
          </p:nvSpPr>
          <p:spPr>
            <a:xfrm>
              <a:off x="9925200" y="4143240"/>
              <a:ext cx="7037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9925200" y="4143240"/>
              <a:ext cx="7037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10015560" y="4143240"/>
            <a:ext cx="6858000" cy="360"/>
            <a:chOff x="10015560" y="4143240"/>
            <a:chExt cx="6858000" cy="360"/>
          </a:xfrm>
        </p:grpSpPr>
        <p:grpSp>
          <p:nvGrpSpPr>
            <p:cNvPr id="85" name=""/>
            <p:cNvGrpSpPr/>
            <p:nvPr/>
          </p:nvGrpSpPr>
          <p:grpSpPr>
            <a:xfrm>
              <a:off x="10019880" y="4143240"/>
              <a:ext cx="6848640" cy="360"/>
              <a:chOff x="10019880" y="4143240"/>
              <a:chExt cx="6848640" cy="360"/>
            </a:xfrm>
          </p:grpSpPr>
          <p:sp>
            <p:nvSpPr>
              <p:cNvPr id="86" name=""/>
              <p:cNvSpPr/>
              <p:nvPr/>
            </p:nvSpPr>
            <p:spPr>
              <a:xfrm>
                <a:off x="10019880" y="4143240"/>
                <a:ext cx="68486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0019880" y="4143240"/>
                <a:ext cx="68486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10015560" y="4143240"/>
              <a:ext cx="6858000" cy="3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371600" y="2286000"/>
            <a:ext cx="1841400" cy="38862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80520" y="456840"/>
            <a:ext cx="80773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point of neutralization is th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ndpoin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f the ti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nly H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 and salt pres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803920" y="1066680"/>
            <a:ext cx="1130400" cy="2895840"/>
          </a:xfrm>
          <a:custGeom>
            <a:avLst/>
            <a:gdLst/>
            <a:ahLst/>
            <a:rect l="l" t="t" r="r" b="b"/>
            <a:pathLst>
              <a:path w="712" h="1824">
                <a:moveTo>
                  <a:pt x="472" y="0"/>
                </a:moveTo>
                <a:cubicBezTo>
                  <a:pt x="236" y="304"/>
                  <a:pt x="0" y="608"/>
                  <a:pt x="40" y="912"/>
                </a:cubicBezTo>
                <a:cubicBezTo>
                  <a:pt x="80" y="1216"/>
                  <a:pt x="396" y="1520"/>
                  <a:pt x="712" y="1824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quival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mount of 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ac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or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a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that will produce one mole of 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H</a:t>
            </a:r>
            <a:r>
              <a:rPr b="0" lang="en-US" sz="3200" spc="-1" strike="noStrike" baseline="30000">
                <a:solidFill>
                  <a:srgbClr val="cc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or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H</a:t>
            </a:r>
            <a:r>
              <a:rPr b="0" lang="en-US" sz="3200" spc="-1" strike="noStrike" baseline="30000">
                <a:solidFill>
                  <a:srgbClr val="3333cc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320" y="914400"/>
            <a:ext cx="7391160" cy="0"/>
          </a:xfrm>
          <a:prstGeom prst="line">
            <a:avLst/>
          </a:prstGeom>
          <a:ln w="28440">
            <a:solidFill>
              <a:srgbClr val="000000"/>
            </a:solidFill>
            <a:prstDash val="lgDashDot"/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320" y="2286000"/>
            <a:ext cx="8915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Cl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H</a:t>
            </a:r>
            <a:r>
              <a:rPr b="0" lang="en-US" sz="3200" spc="-1" strike="noStrike" baseline="30000">
                <a:solidFill>
                  <a:srgbClr val="cc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C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1 equiv. of 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H</a:t>
            </a:r>
            <a:r>
              <a:rPr b="0" lang="en-US" sz="3200" spc="-1" strike="noStrike" baseline="30000">
                <a:solidFill>
                  <a:srgbClr val="cc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3H</a:t>
            </a:r>
            <a:r>
              <a:rPr b="0" lang="en-US" sz="3200" spc="-1" strike="noStrike" baseline="30000">
                <a:solidFill>
                  <a:srgbClr val="cc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3 equiv. of 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H</a:t>
            </a:r>
            <a:r>
              <a:rPr b="0" lang="en-US" sz="3200" spc="-1" strike="noStrike" baseline="30000">
                <a:solidFill>
                  <a:srgbClr val="cc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OH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H</a:t>
            </a:r>
            <a:r>
              <a:rPr b="0" lang="en-US" sz="3200" spc="-1" strike="noStrike" baseline="30000">
                <a:solidFill>
                  <a:srgbClr val="3333cc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1 equiv. of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H</a:t>
            </a:r>
            <a:r>
              <a:rPr b="0" lang="en-US" sz="3200" spc="-1" strike="noStrike" baseline="30000">
                <a:solidFill>
                  <a:srgbClr val="3333cc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1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8600" y="22860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 any neutralization rxn, the equivalents of </a:t>
            </a:r>
            <a:r>
              <a:rPr b="0" i="1" lang="en-US" sz="3200" spc="-1" strike="noStrike">
                <a:solidFill>
                  <a:srgbClr val="cc0000"/>
                </a:solidFill>
                <a:latin typeface="Times New Roman"/>
              </a:rPr>
              <a:t>acid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must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qual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he equivalents of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1523880"/>
            <a:ext cx="84582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+  NaOH 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HOH  +  Na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29718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3 equiv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057400" y="300204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 equiv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3581280"/>
            <a:ext cx="84582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u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NaOH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3 HOH  +  Na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21920" y="5181480"/>
            <a:ext cx="246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:3 mole rat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0T00:00:12Z</dcterms:created>
  <dc:creator>Thomas</dc:creator>
  <dc:description/>
  <dc:language>en-US</dc:language>
  <cp:lastModifiedBy>MRHS Science</cp:lastModifiedBy>
  <cp:lastPrinted>2010-04-05T13:40:54Z</cp:lastPrinted>
  <dcterms:modified xsi:type="dcterms:W3CDTF">2010-04-05T15:17:56Z</dcterms:modified>
  <cp:revision>30</cp:revision>
  <dc:subject/>
  <dc:title>Neutralization</dc:title>
</cp:coreProperties>
</file>