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8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gif" ContentType="image/gif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562-DB90-4A13-8EC0-099E05EF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EFC-EF55-452E-8DE2-A2F1A76F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F38-293C-46C4-847A-B8359E5B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09C-914E-4F55-B495-D8B19528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898-916F-4201-873B-23560DE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986-39ED-4662-B266-95D75A82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B4D-D3AE-4C21-845E-1155BE5F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8FE-235F-4A08-B184-254852DB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C38-C0FF-4820-A47A-1F03EED5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308-FD6F-44C6-886C-BDF179D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B5E-8776-4DCD-AFFB-BEA49B5A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E32-17B2-4CA6-B5E9-14933F31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B2B1-0087-4A81-A953-F2612F932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hhe.com/physsci/chemistry/animations/chang_7e_esp/crm3s5_5.swf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dCast 19.3 - 19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s of Acids and Bas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ization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etermining the Concentration of an Acid by Ti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mL of 0.5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Cl will neutralize 50 mL of 1.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O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7080" y="2971800"/>
            <a:ext cx="4264560" cy="914400"/>
            <a:chOff x="307080" y="2971800"/>
            <a:chExt cx="4264560" cy="914400"/>
          </a:xfrm>
        </p:grpSpPr>
        <p:sp>
          <p:nvSpPr>
            <p:cNvPr id="105" name=""/>
            <p:cNvSpPr/>
            <p:nvPr/>
          </p:nvSpPr>
          <p:spPr>
            <a:xfrm>
              <a:off x="307080" y="2990880"/>
              <a:ext cx="19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50 L Na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69240" y="2971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0320" y="3429000"/>
              <a:ext cx="408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662560" y="299088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ol N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L N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0" y="2971800"/>
            <a:ext cx="1905120" cy="914400"/>
            <a:chOff x="4572000" y="2971800"/>
            <a:chExt cx="1905120" cy="914400"/>
          </a:xfrm>
        </p:grpSpPr>
        <p:sp>
          <p:nvSpPr>
            <p:cNvPr id="110" name=""/>
            <p:cNvSpPr/>
            <p:nvPr/>
          </p:nvSpPr>
          <p:spPr>
            <a:xfrm>
              <a:off x="4572000" y="2971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3429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3640" y="30481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mol H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mol Na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477120" y="2971800"/>
            <a:ext cx="1902600" cy="901800"/>
            <a:chOff x="6477120" y="2971800"/>
            <a:chExt cx="1902600" cy="901800"/>
          </a:xfrm>
        </p:grpSpPr>
        <p:sp>
          <p:nvSpPr>
            <p:cNvPr id="114" name=""/>
            <p:cNvSpPr/>
            <p:nvPr/>
          </p:nvSpPr>
          <p:spPr>
            <a:xfrm>
              <a:off x="647712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77120" y="3429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05920" y="3048120"/>
              <a:ext cx="187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 mL H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5 mol H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79600" y="415116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00 mL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tual Ti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View titration to answer questions on note gu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t Hydr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ts dissolved in a solution can be 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r 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ations or anions of the dissociated salt will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donate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[H</a:t>
            </a:r>
            <a:r>
              <a:rPr b="0" lang="en-US" sz="28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water 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ccep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[H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rom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cess makes the solutio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038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ong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eutral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800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ak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516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ong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ts that contain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eak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ak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sist changes in 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mportant in your body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ic acid / hydrogen carbonate buf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uffer capa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amount of acid (or base) that can be added to a buffer solution before a significant change in pH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Strong Ac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onst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w titration is used to calculate the concentration of an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scri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solution of a salt i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e of                                                     bu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02120" y="3657600"/>
            <a:ext cx="317520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ngths of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 depends on the degree to which th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on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plet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ligh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 to Table 19.6, p.6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3860640"/>
            <a:ext cx="2741760" cy="276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23880" y="454032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43864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tralization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ing an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replacement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and a s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9718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ci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Water   +   S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7180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)   +  ( )O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HOH   +   ( )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52280" y="4602240"/>
            <a:ext cx="8534520" cy="1282680"/>
            <a:chOff x="152280" y="4602240"/>
            <a:chExt cx="8534520" cy="1282680"/>
          </a:xfrm>
        </p:grpSpPr>
        <p:sp>
          <p:nvSpPr>
            <p:cNvPr id="56" name=""/>
            <p:cNvSpPr/>
            <p:nvPr/>
          </p:nvSpPr>
          <p:spPr>
            <a:xfrm>
              <a:off x="380880" y="5181480"/>
              <a:ext cx="830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</a:rPr>
                <a:t>HCl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+   </a:t>
              </a: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HOH   +   NaC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4602240"/>
              <a:ext cx="83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3108240"/>
            <a:ext cx="6705720" cy="382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8960" y="1371600"/>
            <a:ext cx="329724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68800" y="1352520"/>
            <a:ext cx="3389400" cy="352440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304920" y="471600"/>
            <a:ext cx="8533800" cy="1282680"/>
            <a:chOff x="304920" y="471600"/>
            <a:chExt cx="8533800" cy="1282680"/>
          </a:xfrm>
        </p:grpSpPr>
        <p:sp>
          <p:nvSpPr>
            <p:cNvPr id="63" name=""/>
            <p:cNvSpPr/>
            <p:nvPr/>
          </p:nvSpPr>
          <p:spPr>
            <a:xfrm>
              <a:off x="533160" y="1050840"/>
              <a:ext cx="830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</a:rPr>
                <a:t>HCl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+   </a:t>
              </a: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HOH   +   NaC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471600"/>
              <a:ext cx="830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)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eutraliz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60020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ization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of adding a specified amount of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own concent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solution to determine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centr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other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cator is used show the change in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) phenolphthalein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2873520" cy="316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4365720" cy="3726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9725040" y="4186080"/>
            <a:ext cx="7037280" cy="360"/>
            <a:chOff x="9725040" y="4186080"/>
            <a:chExt cx="7037280" cy="360"/>
          </a:xfrm>
        </p:grpSpPr>
        <p:sp>
          <p:nvSpPr>
            <p:cNvPr id="74" name=""/>
            <p:cNvSpPr/>
            <p:nvPr/>
          </p:nvSpPr>
          <p:spPr>
            <a:xfrm>
              <a:off x="9725040" y="418608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725040" y="418608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815400" y="4186080"/>
            <a:ext cx="6858000" cy="360"/>
            <a:chOff x="9815400" y="4186080"/>
            <a:chExt cx="6858000" cy="360"/>
          </a:xfrm>
        </p:grpSpPr>
        <p:grpSp>
          <p:nvGrpSpPr>
            <p:cNvPr id="77" name=""/>
            <p:cNvGrpSpPr/>
            <p:nvPr/>
          </p:nvGrpSpPr>
          <p:grpSpPr>
            <a:xfrm>
              <a:off x="9819720" y="4186080"/>
              <a:ext cx="6848640" cy="360"/>
              <a:chOff x="9819720" y="4186080"/>
              <a:chExt cx="6848640" cy="360"/>
            </a:xfrm>
          </p:grpSpPr>
          <p:sp>
            <p:nvSpPr>
              <p:cNvPr id="78" name=""/>
              <p:cNvSpPr/>
              <p:nvPr/>
            </p:nvSpPr>
            <p:spPr>
              <a:xfrm>
                <a:off x="9819720" y="4186080"/>
                <a:ext cx="6848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819720" y="4186080"/>
                <a:ext cx="68486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9815400" y="4186080"/>
              <a:ext cx="685800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9925200" y="4143240"/>
            <a:ext cx="7037280" cy="360"/>
            <a:chOff x="9925200" y="4143240"/>
            <a:chExt cx="7037280" cy="360"/>
          </a:xfrm>
        </p:grpSpPr>
        <p:sp>
          <p:nvSpPr>
            <p:cNvPr id="82" name=""/>
            <p:cNvSpPr/>
            <p:nvPr/>
          </p:nvSpPr>
          <p:spPr>
            <a:xfrm>
              <a:off x="9925200" y="414324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925200" y="414324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015560" y="4143240"/>
            <a:ext cx="6858000" cy="360"/>
            <a:chOff x="10015560" y="4143240"/>
            <a:chExt cx="6858000" cy="360"/>
          </a:xfrm>
        </p:grpSpPr>
        <p:grpSp>
          <p:nvGrpSpPr>
            <p:cNvPr id="85" name=""/>
            <p:cNvGrpSpPr/>
            <p:nvPr/>
          </p:nvGrpSpPr>
          <p:grpSpPr>
            <a:xfrm>
              <a:off x="10019880" y="4143240"/>
              <a:ext cx="6848640" cy="360"/>
              <a:chOff x="10019880" y="4143240"/>
              <a:chExt cx="6848640" cy="360"/>
            </a:xfrm>
          </p:grpSpPr>
          <p:sp>
            <p:nvSpPr>
              <p:cNvPr id="86" name=""/>
              <p:cNvSpPr/>
              <p:nvPr/>
            </p:nvSpPr>
            <p:spPr>
              <a:xfrm>
                <a:off x="10019880" y="4143240"/>
                <a:ext cx="6848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0019880" y="4143240"/>
                <a:ext cx="68486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015560" y="4143240"/>
              <a:ext cx="685800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18414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oint of neutralization i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poi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ti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 and salt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03920" y="1066680"/>
            <a:ext cx="1130400" cy="2895840"/>
          </a:xfrm>
          <a:custGeom>
            <a:avLst/>
            <a:gdLst/>
            <a:ahLst/>
            <a:rect l="l" t="t" r="r" b="b"/>
            <a:pathLst>
              <a:path w="712" h="1824">
                <a:moveTo>
                  <a:pt x="472" y="0"/>
                </a:moveTo>
                <a:cubicBezTo>
                  <a:pt x="236" y="304"/>
                  <a:pt x="0" y="608"/>
                  <a:pt x="40" y="912"/>
                </a:cubicBezTo>
                <a:cubicBezTo>
                  <a:pt x="80" y="1216"/>
                  <a:pt x="396" y="1520"/>
                  <a:pt x="712" y="182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hat will produce one mole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2286000"/>
            <a:ext cx="8915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equiv.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3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 equiv.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equiv.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any neutralization rxn, the equivalents of 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mus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qua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equivalents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3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+  NaOH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HOH  +  N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 equ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0020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 equ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aO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3 HOH  +  N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1920" y="5181480"/>
            <a:ext cx="24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3 mole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0:00:12Z</dcterms:created>
  <dc:creator>Thomas</dc:creator>
  <dc:description/>
  <dc:language>en-US</dc:language>
  <cp:lastModifiedBy>MRHS Science</cp:lastModifiedBy>
  <cp:lastPrinted>2010-04-05T13:40:54Z</cp:lastPrinted>
  <dcterms:modified xsi:type="dcterms:W3CDTF">2010-04-05T15:17:56Z</dcterms:modified>
  <cp:revision>30</cp:revision>
  <dc:subject/>
  <dc:title>Neutralization</dc:title>
</cp:coreProperties>
</file>