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537-0719-4038-AAC4-61EDBC6F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18B-3290-4C5D-B8E1-AFC669E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BF3-DB2A-4692-8C0E-9253337E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323-37BB-4F01-AF1C-8D373768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455-BD11-4B24-94F3-91EC8E8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C40-28F8-44F2-948E-652335B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898-0E1A-4BB8-999A-1DDFF030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BEE-2D6E-4C89-97AF-D1865837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5FD-51F9-4A2B-8178-812CB05A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1F6-197A-4A80-891F-71BAC50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85F-4758-4C30-8291-CC6D340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CFE-692C-41C9-9D1A-8F38FB45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349-9CC6-4E3F-A77C-39D28234B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rmochemistry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dCast 17.1 -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245040" cy="410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ilojoules of 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produced when 3.40 moles of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 w/ C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CO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Fe + 3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124080"/>
            <a:ext cx="3962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40 moles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124080"/>
            <a:ext cx="3962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3520" y="3124080"/>
            <a:ext cx="7391160" cy="1295640"/>
            <a:chOff x="533520" y="3124080"/>
            <a:chExt cx="7391160" cy="1295640"/>
          </a:xfrm>
        </p:grpSpPr>
        <p:sp>
          <p:nvSpPr>
            <p:cNvPr id="75" name=""/>
            <p:cNvSpPr/>
            <p:nvPr/>
          </p:nvSpPr>
          <p:spPr>
            <a:xfrm>
              <a:off x="3733920" y="3124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38862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33920" y="4952880"/>
            <a:ext cx="3581280" cy="1067040"/>
            <a:chOff x="3733920" y="4952880"/>
            <a:chExt cx="3581280" cy="1067040"/>
          </a:xfrm>
        </p:grpSpPr>
        <p:sp>
          <p:nvSpPr>
            <p:cNvPr id="78" name=""/>
            <p:cNvSpPr/>
            <p:nvPr/>
          </p:nvSpPr>
          <p:spPr>
            <a:xfrm>
              <a:off x="4189680" y="5105520"/>
              <a:ext cx="258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= - 89.4 k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4952880"/>
              <a:ext cx="358128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Image:Dancing Banana.gif"/>
          <p:cNvPicPr/>
          <p:nvPr/>
        </p:nvPicPr>
        <p:blipFill>
          <a:blip r:embed="rId1"/>
          <a:stretch/>
        </p:blipFill>
        <p:spPr>
          <a:xfrm>
            <a:off x="6781680" y="4038480"/>
            <a:ext cx="2286000" cy="22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: Balance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rmochemic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quation for the combustion of 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__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__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__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2220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64.0 g of propane are burned, how much heat is given of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940200"/>
            <a:ext cx="22100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 g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3940200"/>
            <a:ext cx="2210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20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3930480"/>
            <a:ext cx="4419720" cy="946440"/>
            <a:chOff x="152280" y="3930480"/>
            <a:chExt cx="4419720" cy="946440"/>
          </a:xfrm>
        </p:grpSpPr>
        <p:sp>
          <p:nvSpPr>
            <p:cNvPr id="86" name=""/>
            <p:cNvSpPr/>
            <p:nvPr/>
          </p:nvSpPr>
          <p:spPr>
            <a:xfrm>
              <a:off x="152280" y="3930480"/>
              <a:ext cx="2210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4.0 g 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4572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2000" y="3962520"/>
            <a:ext cx="2362320" cy="914400"/>
            <a:chOff x="4572000" y="3962520"/>
            <a:chExt cx="2362320" cy="914400"/>
          </a:xfrm>
        </p:grpSpPr>
        <p:sp>
          <p:nvSpPr>
            <p:cNvPr id="90" name=""/>
            <p:cNvSpPr/>
            <p:nvPr/>
          </p:nvSpPr>
          <p:spPr>
            <a:xfrm>
              <a:off x="457200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4572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324480" y="5302080"/>
            <a:ext cx="2590560" cy="946080"/>
            <a:chOff x="6324480" y="5302080"/>
            <a:chExt cx="2590560" cy="946080"/>
          </a:xfrm>
        </p:grpSpPr>
        <p:sp>
          <p:nvSpPr>
            <p:cNvPr id="93" name=""/>
            <p:cNvSpPr/>
            <p:nvPr/>
          </p:nvSpPr>
          <p:spPr>
            <a:xfrm>
              <a:off x="6324480" y="5459760"/>
              <a:ext cx="250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- 3230 k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97280" y="5302080"/>
              <a:ext cx="2417760" cy="946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3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Image:Dancing Banana.gif"/>
          <p:cNvPicPr/>
          <p:nvPr/>
        </p:nvPicPr>
        <p:blipFill>
          <a:blip r:embed="rId1"/>
          <a:stretch/>
        </p:blipFill>
        <p:spPr>
          <a:xfrm>
            <a:off x="7315200" y="4356000"/>
            <a:ext cx="990720" cy="9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, heat, and work can be exchanged with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        ga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burned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car accel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heat    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wor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is chapter we will look at how heat, chemical reactions, and changes in state are relat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848720" y="228600"/>
            <a:ext cx="1044000" cy="838080"/>
            <a:chOff x="7848720" y="228600"/>
            <a:chExt cx="1044000" cy="838080"/>
          </a:xfrm>
        </p:grpSpPr>
        <p:sp>
          <p:nvSpPr>
            <p:cNvPr id="46" name=""/>
            <p:cNvSpPr/>
            <p:nvPr/>
          </p:nvSpPr>
          <p:spPr>
            <a:xfrm>
              <a:off x="7848720" y="228600"/>
              <a:ext cx="990360" cy="838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8440" y="411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ransfer of energ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one place to another due to 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emperature dif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t itsel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e measured,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he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measu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alorie  =  4.184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ries = 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following conver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4 cal to jo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0 cal to Cal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 kJ to 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51760" y="538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 absorbs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goe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s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change (∆H)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5680" y="5331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 gives off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leaves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s 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change (∆H) 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76320" y="228600"/>
            <a:ext cx="891540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eat capac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ount of heat needed to increas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. of an object by exactly 1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e greater the mass of an object,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r its heat capac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09700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bjects hold different amounts of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 air, cake, 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diffe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fic h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 =  m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∆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21120" y="2895480"/>
            <a:ext cx="7284240" cy="1861560"/>
            <a:chOff x="1221120" y="2895480"/>
            <a:chExt cx="7284240" cy="1861560"/>
          </a:xfrm>
        </p:grpSpPr>
        <p:sp>
          <p:nvSpPr>
            <p:cNvPr id="58" name=""/>
            <p:cNvSpPr/>
            <p:nvPr/>
          </p:nvSpPr>
          <p:spPr>
            <a:xfrm>
              <a:off x="1221120" y="2971800"/>
              <a:ext cx="8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5520" y="380988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6440" y="3809880"/>
              <a:ext cx="130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83840" y="2895480"/>
              <a:ext cx="172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m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3720" y="297144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32763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028840" y="3276360"/>
              <a:ext cx="304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71840" y="304776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heats are in Table 17.3, p.5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kJ of heat are absorbed when 1000 g of water is heated from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to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at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so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∆H, or the heat of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CO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Fe + 3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c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othermic                              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∆H = -26.3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3:47:05Z</dcterms:created>
  <dc:creator>Thomas</dc:creator>
  <dc:description/>
  <dc:language>en-US</dc:language>
  <cp:lastModifiedBy>MRHS Science</cp:lastModifiedBy>
  <cp:lastPrinted>2007-01-17T20:44:37Z</cp:lastPrinted>
  <dcterms:modified xsi:type="dcterms:W3CDTF">2010-04-27T18:59:17Z</dcterms:modified>
  <cp:revision>51</cp:revision>
  <dc:subject/>
  <dc:title>Heat &amp; Chemical Change Thermochemistry</dc:title>
</cp:coreProperties>
</file>