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8.jpeg" ContentType="image/jpeg"/>
  <Override PartName="/ppt/media/image2.pct" ContentType="image/x-pict"/>
  <Override PartName="/ppt/media/image3.pct" ContentType="image/x-pict"/>
  <Override PartName="/ppt/media/image6.png" ContentType="image/png"/>
  <Override PartName="/ppt/media/image4.pct" ContentType="image/x-pict"/>
  <Override PartName="/ppt/media/image7.png" ContentType="image/png"/>
  <Override PartName="/ppt/media/image5.gif" ContentType="image/gif"/>
  <Override PartName="/ppt/media/image9.png" ContentType="image/png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C0BF-87CA-46E3-8F6A-B511BAE7A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E218-033C-4ABB-B16A-C2A63EC7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AC00-F8EA-4AD9-BE1B-F2308F40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F983-9B78-46F7-8A20-F0713A64D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998A-C660-4E3E-BEAF-33D5061F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B690-C92C-4FA4-B836-DFD1EBCF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2726-E366-4543-AAB9-BB8B9F36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21C4-1ADD-4F4C-AB1E-46F37A20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9444-11EC-41E9-A979-D81973C1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7961-723A-4D1E-AB54-98167862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BDD0-E8A0-48BF-8F3B-D83D0E41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7F26-A0E6-4A81-B832-C76AED6B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C2E3-0DA0-43FE-9E87-23403EEAA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hhe.com/physsci/chemistry/animations/chang_7e_esp/crm3s5_5.swf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dCast 19.3 - 19.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ngths of Acids and Base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tralization Re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etermining the Concentration of an Acid by Ti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mL of 0.5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Cl will neutralize 50 mL of 1.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aO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07080" y="2971800"/>
            <a:ext cx="4264560" cy="914400"/>
            <a:chOff x="307080" y="2971800"/>
            <a:chExt cx="4264560" cy="914400"/>
          </a:xfrm>
        </p:grpSpPr>
        <p:sp>
          <p:nvSpPr>
            <p:cNvPr id="105" name=""/>
            <p:cNvSpPr/>
            <p:nvPr/>
          </p:nvSpPr>
          <p:spPr>
            <a:xfrm>
              <a:off x="307080" y="2990880"/>
              <a:ext cx="199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050 L Na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69240" y="29718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0320" y="3429000"/>
              <a:ext cx="408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662560" y="2990880"/>
            <a:ext cx="175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ol Na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L Na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572000" y="2971800"/>
            <a:ext cx="1905120" cy="914400"/>
            <a:chOff x="4572000" y="2971800"/>
            <a:chExt cx="1905120" cy="914400"/>
          </a:xfrm>
        </p:grpSpPr>
        <p:sp>
          <p:nvSpPr>
            <p:cNvPr id="110" name=""/>
            <p:cNvSpPr/>
            <p:nvPr/>
          </p:nvSpPr>
          <p:spPr>
            <a:xfrm>
              <a:off x="4572000" y="29718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0" y="34290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43640" y="3048120"/>
              <a:ext cx="1755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mol H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mol Na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477120" y="2971800"/>
            <a:ext cx="1902600" cy="901800"/>
            <a:chOff x="6477120" y="2971800"/>
            <a:chExt cx="1902600" cy="901800"/>
          </a:xfrm>
        </p:grpSpPr>
        <p:sp>
          <p:nvSpPr>
            <p:cNvPr id="114" name=""/>
            <p:cNvSpPr/>
            <p:nvPr/>
          </p:nvSpPr>
          <p:spPr>
            <a:xfrm>
              <a:off x="6477120" y="29718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77120" y="34290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05920" y="3048120"/>
              <a:ext cx="187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00 mL H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5 mol H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479600" y="415116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00 mL H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rtual Ti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View titration to answer questions on note gu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lt Hydro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alts dissolved in a solution can be </a:t>
            </a:r>
            <a:r>
              <a:rPr b="0" i="1" lang="en-US" sz="3200" spc="-1" strike="noStrike">
                <a:solidFill>
                  <a:srgbClr val="cc0000"/>
                </a:solidFill>
                <a:latin typeface="Times New Roman"/>
              </a:rPr>
              <a:t>acidi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asi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r 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ations or anions of the dissociated salt will 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</a:rPr>
              <a:t>donate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[H</a:t>
            </a:r>
            <a:r>
              <a:rPr b="0" lang="en-US" sz="28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]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o water or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ccept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[H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]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rom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cess makes the solution 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</a:rPr>
              <a:t>acidi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ba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320" y="91440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prstDash val="lgDashDot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40384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trong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trong 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Neutral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48006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trong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eak 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Acid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55166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Weak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trong 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asi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lts that contain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weak aci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/or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eak 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esist changes in 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important in your body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bonic acid / hydrogen carbonate buff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uffer capac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the amount of acid (or base) that can be added to a buffer solution before a significant change in pH occ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320" y="91440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prstDash val="lgDashDot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will be able t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ra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Strong Aci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la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monstr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ow titration is used to calculate the concentration of an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aci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scri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solution of a salt is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acid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a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la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ce of                                                     buff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02120" y="3657600"/>
            <a:ext cx="3175200" cy="2971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engths of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Acid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ngth depends on the degree to which the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on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ong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Aci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a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mplete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on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k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Aci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a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light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on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 to Table 19.6, p.6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3860640"/>
            <a:ext cx="2741760" cy="2768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223880" y="4540320"/>
            <a:ext cx="5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81480" y="3733920"/>
            <a:ext cx="2438640" cy="2895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utralization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ing an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replacement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es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and a sa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297180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Aci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+  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Bas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Water   +   Sa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371808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 )   +  ( )OH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HOH   +   ( )(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52280" y="4602240"/>
            <a:ext cx="8534520" cy="1282680"/>
            <a:chOff x="152280" y="4602240"/>
            <a:chExt cx="8534520" cy="1282680"/>
          </a:xfrm>
        </p:grpSpPr>
        <p:sp>
          <p:nvSpPr>
            <p:cNvPr id="56" name=""/>
            <p:cNvSpPr/>
            <p:nvPr/>
          </p:nvSpPr>
          <p:spPr>
            <a:xfrm>
              <a:off x="380880" y="5181480"/>
              <a:ext cx="8305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00"/>
                  </a:solidFill>
                  <a:latin typeface="Times New Roman"/>
                </a:rPr>
                <a:t>HCl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+   </a:t>
              </a: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NaOH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HOH   +   NaC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280" y="4602240"/>
              <a:ext cx="830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76320" y="91440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prstDash val="lgDashDot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95280" y="3108240"/>
            <a:ext cx="6705720" cy="3826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88960" y="1371600"/>
            <a:ext cx="3297240" cy="3429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68800" y="1352520"/>
            <a:ext cx="3389400" cy="352440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304920" y="471600"/>
            <a:ext cx="8533800" cy="1282680"/>
            <a:chOff x="304920" y="471600"/>
            <a:chExt cx="8533800" cy="1282680"/>
          </a:xfrm>
        </p:grpSpPr>
        <p:sp>
          <p:nvSpPr>
            <p:cNvPr id="63" name=""/>
            <p:cNvSpPr/>
            <p:nvPr/>
          </p:nvSpPr>
          <p:spPr>
            <a:xfrm>
              <a:off x="533160" y="1050840"/>
              <a:ext cx="8305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00"/>
                  </a:solidFill>
                  <a:latin typeface="Times New Roman"/>
                </a:rPr>
                <a:t>HCl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+   </a:t>
              </a: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NaOH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HOH   +   NaC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471600"/>
              <a:ext cx="8305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) 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Neutraliz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600200" y="5257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5257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tralization re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 of adding a specified amount of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nown concent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solution to determine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centr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nother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icator is used show the change in 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) phenolphthalein indi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320" y="91440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prstDash val="lgDashDot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41911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715000" y="3505320"/>
            <a:ext cx="2873520" cy="3162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09880" y="2438280"/>
            <a:ext cx="4365720" cy="372600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9725040" y="4186080"/>
            <a:ext cx="7037280" cy="360"/>
            <a:chOff x="9725040" y="4186080"/>
            <a:chExt cx="7037280" cy="360"/>
          </a:xfrm>
        </p:grpSpPr>
        <p:sp>
          <p:nvSpPr>
            <p:cNvPr id="74" name=""/>
            <p:cNvSpPr/>
            <p:nvPr/>
          </p:nvSpPr>
          <p:spPr>
            <a:xfrm>
              <a:off x="9725040" y="4186080"/>
              <a:ext cx="7037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9725040" y="4186080"/>
              <a:ext cx="7037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9815400" y="4186080"/>
            <a:ext cx="6858000" cy="360"/>
            <a:chOff x="9815400" y="4186080"/>
            <a:chExt cx="6858000" cy="360"/>
          </a:xfrm>
        </p:grpSpPr>
        <p:grpSp>
          <p:nvGrpSpPr>
            <p:cNvPr id="77" name=""/>
            <p:cNvGrpSpPr/>
            <p:nvPr/>
          </p:nvGrpSpPr>
          <p:grpSpPr>
            <a:xfrm>
              <a:off x="9819720" y="4186080"/>
              <a:ext cx="6848640" cy="360"/>
              <a:chOff x="9819720" y="4186080"/>
              <a:chExt cx="6848640" cy="360"/>
            </a:xfrm>
          </p:grpSpPr>
          <p:sp>
            <p:nvSpPr>
              <p:cNvPr id="78" name=""/>
              <p:cNvSpPr/>
              <p:nvPr/>
            </p:nvSpPr>
            <p:spPr>
              <a:xfrm>
                <a:off x="9819720" y="4186080"/>
                <a:ext cx="68486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9819720" y="4186080"/>
                <a:ext cx="68486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9815400" y="4186080"/>
              <a:ext cx="685800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9925200" y="4143240"/>
            <a:ext cx="7037280" cy="360"/>
            <a:chOff x="9925200" y="4143240"/>
            <a:chExt cx="7037280" cy="360"/>
          </a:xfrm>
        </p:grpSpPr>
        <p:sp>
          <p:nvSpPr>
            <p:cNvPr id="82" name=""/>
            <p:cNvSpPr/>
            <p:nvPr/>
          </p:nvSpPr>
          <p:spPr>
            <a:xfrm>
              <a:off x="9925200" y="4143240"/>
              <a:ext cx="7037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925200" y="4143240"/>
              <a:ext cx="7037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0015560" y="4143240"/>
            <a:ext cx="6858000" cy="360"/>
            <a:chOff x="10015560" y="4143240"/>
            <a:chExt cx="6858000" cy="360"/>
          </a:xfrm>
        </p:grpSpPr>
        <p:grpSp>
          <p:nvGrpSpPr>
            <p:cNvPr id="85" name=""/>
            <p:cNvGrpSpPr/>
            <p:nvPr/>
          </p:nvGrpSpPr>
          <p:grpSpPr>
            <a:xfrm>
              <a:off x="10019880" y="4143240"/>
              <a:ext cx="6848640" cy="360"/>
              <a:chOff x="10019880" y="4143240"/>
              <a:chExt cx="6848640" cy="360"/>
            </a:xfrm>
          </p:grpSpPr>
          <p:sp>
            <p:nvSpPr>
              <p:cNvPr id="86" name=""/>
              <p:cNvSpPr/>
              <p:nvPr/>
            </p:nvSpPr>
            <p:spPr>
              <a:xfrm>
                <a:off x="10019880" y="4143240"/>
                <a:ext cx="68486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0019880" y="4143240"/>
                <a:ext cx="68486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015560" y="4143240"/>
              <a:ext cx="685800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371600" y="2286000"/>
            <a:ext cx="1841400" cy="38862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0520" y="4568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oint of neutralization is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poi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ti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nly 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 and salt pre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03920" y="1066680"/>
            <a:ext cx="1130400" cy="2895840"/>
          </a:xfrm>
          <a:custGeom>
            <a:avLst/>
            <a:gdLst/>
            <a:ahLst/>
            <a:rect l="l" t="t" r="r" b="b"/>
            <a:pathLst>
              <a:path w="712" h="1824">
                <a:moveTo>
                  <a:pt x="472" y="0"/>
                </a:moveTo>
                <a:cubicBezTo>
                  <a:pt x="236" y="304"/>
                  <a:pt x="0" y="608"/>
                  <a:pt x="40" y="912"/>
                </a:cubicBezTo>
                <a:cubicBezTo>
                  <a:pt x="80" y="1216"/>
                  <a:pt x="396" y="1520"/>
                  <a:pt x="712" y="1824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val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mount of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hat will produce one mole of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H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91440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prstDash val="lgDashDot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320" y="2286000"/>
            <a:ext cx="8915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l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 equiv. of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3H</a:t>
            </a:r>
            <a:r>
              <a:rPr b="0" lang="en-US" sz="32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3 equiv. of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O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H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 equiv. of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H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8600" y="228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 any neutralization rxn, the equivalents of </a:t>
            </a:r>
            <a:r>
              <a:rPr b="0" i="1" lang="en-US" sz="3200" spc="-1" strike="noStrike">
                <a:solidFill>
                  <a:srgbClr val="cc0000"/>
                </a:solidFill>
                <a:latin typeface="Times New Roman"/>
              </a:rPr>
              <a:t>acid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mus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qua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 equivalents of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52388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+  NaOH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HOH  +  Na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9718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3 equi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300204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 equi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358128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u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NaO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3 HOH  +  Na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1920" y="5181480"/>
            <a:ext cx="24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3 mole rat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00:00:12Z</dcterms:created>
  <dc:creator>Thomas</dc:creator>
  <dc:description/>
  <dc:language>en-US</dc:language>
  <cp:lastModifiedBy>MRHS Science</cp:lastModifiedBy>
  <cp:lastPrinted>2010-04-05T13:40:54Z</cp:lastPrinted>
  <dcterms:modified xsi:type="dcterms:W3CDTF">2010-04-05T15:17:56Z</dcterms:modified>
  <cp:revision>30</cp:revision>
  <dc:subject/>
  <dc:title>Neutralization</dc:title>
</cp:coreProperties>
</file>