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C54-B22E-4C8C-ABFC-0F7FEDAF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34D7-BC07-4BD4-86DA-9582F243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0F63-88E7-4638-B0D6-D1062548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5FA-9986-446F-B31B-F14147D9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C5E-672D-4245-9F3A-BBAD84A5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8F3B-EA12-4E67-A985-877DAAD6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585-9851-485B-B995-3802424A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75DB-3909-4CA7-AFD4-798C115D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3CD-622F-4A6C-9C78-D6B9073E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AF66-7C4B-46CD-8FCF-100415DC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D6D-E012-4609-ACF2-EE1F47CB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0E66-E9D1-4895-9582-AFECDC77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96CA-BC47-4355-AB9E-30B7A9616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Thermochemistry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hapter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odCast 17.1 - 17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245040" cy="410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kilojoules of he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re produced when 3.40 moles of 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eact w/ C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3 CO 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2 Fe + 3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6.3 k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124080"/>
            <a:ext cx="3962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40 moles 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124080"/>
            <a:ext cx="3962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6.3 k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ole 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33520" y="3124080"/>
            <a:ext cx="7391160" cy="1295640"/>
            <a:chOff x="533520" y="3124080"/>
            <a:chExt cx="7391160" cy="1295640"/>
          </a:xfrm>
        </p:grpSpPr>
        <p:sp>
          <p:nvSpPr>
            <p:cNvPr id="75" name=""/>
            <p:cNvSpPr/>
            <p:nvPr/>
          </p:nvSpPr>
          <p:spPr>
            <a:xfrm>
              <a:off x="3733920" y="3124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3886200"/>
              <a:ext cx="739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733920" y="4952880"/>
            <a:ext cx="3581280" cy="1067040"/>
            <a:chOff x="3733920" y="4952880"/>
            <a:chExt cx="3581280" cy="1067040"/>
          </a:xfrm>
        </p:grpSpPr>
        <p:sp>
          <p:nvSpPr>
            <p:cNvPr id="78" name=""/>
            <p:cNvSpPr/>
            <p:nvPr/>
          </p:nvSpPr>
          <p:spPr>
            <a:xfrm>
              <a:off x="4189680" y="5105520"/>
              <a:ext cx="2582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= - 89.4 kJ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33920" y="4952880"/>
              <a:ext cx="358128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" name="" descr="Image:Dancing Banana.gif"/>
          <p:cNvPicPr/>
          <p:nvPr/>
        </p:nvPicPr>
        <p:blipFill>
          <a:blip r:embed="rId1"/>
          <a:stretch/>
        </p:blipFill>
        <p:spPr>
          <a:xfrm>
            <a:off x="6781680" y="4038480"/>
            <a:ext cx="2286000" cy="225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: Balance th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ermochemic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quation for the combustion of prop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__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__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__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+ 2220 k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59092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64.0 g of propane are burned, how much heat is given off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3940200"/>
            <a:ext cx="22100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ol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4 g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3940200"/>
            <a:ext cx="221004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20 k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ol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2280" y="3930480"/>
            <a:ext cx="4419720" cy="946440"/>
            <a:chOff x="152280" y="3930480"/>
            <a:chExt cx="4419720" cy="946440"/>
          </a:xfrm>
        </p:grpSpPr>
        <p:sp>
          <p:nvSpPr>
            <p:cNvPr id="86" name=""/>
            <p:cNvSpPr/>
            <p:nvPr/>
          </p:nvSpPr>
          <p:spPr>
            <a:xfrm>
              <a:off x="152280" y="3930480"/>
              <a:ext cx="2210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4.0 g C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0" y="39625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457200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572000" y="3962520"/>
            <a:ext cx="2362320" cy="914400"/>
            <a:chOff x="4572000" y="3962520"/>
            <a:chExt cx="2362320" cy="914400"/>
          </a:xfrm>
        </p:grpSpPr>
        <p:sp>
          <p:nvSpPr>
            <p:cNvPr id="90" name=""/>
            <p:cNvSpPr/>
            <p:nvPr/>
          </p:nvSpPr>
          <p:spPr>
            <a:xfrm>
              <a:off x="4572000" y="39625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72000" y="45720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324480" y="5302080"/>
            <a:ext cx="2590560" cy="946080"/>
            <a:chOff x="6324480" y="5302080"/>
            <a:chExt cx="2590560" cy="946080"/>
          </a:xfrm>
        </p:grpSpPr>
        <p:sp>
          <p:nvSpPr>
            <p:cNvPr id="93" name=""/>
            <p:cNvSpPr/>
            <p:nvPr/>
          </p:nvSpPr>
          <p:spPr>
            <a:xfrm>
              <a:off x="6324480" y="5459760"/>
              <a:ext cx="250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= - 3230 kJ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97280" y="5302080"/>
              <a:ext cx="2417760" cy="946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33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62720" y="1828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Image:Dancing Banana.gif"/>
          <p:cNvPicPr/>
          <p:nvPr/>
        </p:nvPicPr>
        <p:blipFill>
          <a:blip r:embed="rId1"/>
          <a:stretch/>
        </p:blipFill>
        <p:spPr>
          <a:xfrm>
            <a:off x="7315200" y="4356000"/>
            <a:ext cx="990720" cy="978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, heat, and work can be exchanged with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        gas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burned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car accele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ergy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heat    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wor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this chapter we will look at how heat, chemical reactions, and changes in state are relate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848720" y="228600"/>
            <a:ext cx="1044000" cy="838080"/>
            <a:chOff x="7848720" y="228600"/>
            <a:chExt cx="1044000" cy="838080"/>
          </a:xfrm>
        </p:grpSpPr>
        <p:sp>
          <p:nvSpPr>
            <p:cNvPr id="46" name=""/>
            <p:cNvSpPr/>
            <p:nvPr/>
          </p:nvSpPr>
          <p:spPr>
            <a:xfrm>
              <a:off x="7848720" y="228600"/>
              <a:ext cx="990360" cy="8380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58440" y="411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STO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ransfer of energ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one place to another due to a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emperature dif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at itself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nno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be measured, 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hange in hea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measu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calorie  =  4.184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ories = 1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he following convers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44 cal to jo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50 cal to Calor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 kJ to 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51760" y="538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4419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ion absorbs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t goes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els 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t change (∆H) i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95680" y="53316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otherm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ion gives off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t leaves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els h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t change (∆H)  i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76320" y="228600"/>
            <a:ext cx="8915400" cy="31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Heat capaci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mount of heat needed to increas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mp. of an object by exactly 1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he greater the mass of an object, th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ater its heat capacit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67080" y="34290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2097000" cy="314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3822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objects hold different amounts of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 air, cake, p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ve differ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cific h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  =  m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∆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221120" y="2895480"/>
            <a:ext cx="7284240" cy="1861560"/>
            <a:chOff x="1221120" y="2895480"/>
            <a:chExt cx="7284240" cy="1861560"/>
          </a:xfrm>
        </p:grpSpPr>
        <p:sp>
          <p:nvSpPr>
            <p:cNvPr id="58" name=""/>
            <p:cNvSpPr/>
            <p:nvPr/>
          </p:nvSpPr>
          <p:spPr>
            <a:xfrm>
              <a:off x="1221120" y="2971800"/>
              <a:ext cx="83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e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25520" y="3809880"/>
              <a:ext cx="9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a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26440" y="3809880"/>
              <a:ext cx="1305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pecif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e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83840" y="2895480"/>
              <a:ext cx="1721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hange i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emp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133720" y="2971440"/>
              <a:ext cx="761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809880" y="327636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028840" y="3276360"/>
              <a:ext cx="3049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71840" y="304776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0880" y="51814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heats are in Table 17.3, p.5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kJ of heat are absorbed when 1000 g of water is heated from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to 8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66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at chan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lso 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thalp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∆H, or the heat of 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3 CO 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2 Fe + 3 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6.3 k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ction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othermic                              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∆H = -26.3 k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4120" y="297180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03:47:05Z</dcterms:created>
  <dc:creator>Thomas</dc:creator>
  <dc:description/>
  <dc:language>en-US</dc:language>
  <cp:lastModifiedBy>MRHS Science</cp:lastModifiedBy>
  <cp:lastPrinted>2007-01-17T20:44:37Z</cp:lastPrinted>
  <dcterms:modified xsi:type="dcterms:W3CDTF">2010-04-27T18:59:17Z</dcterms:modified>
  <cp:revision>51</cp:revision>
  <dc:subject/>
  <dc:title>Heat &amp; Chemical Change Thermochemistry</dc:title>
</cp:coreProperties>
</file>